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892F1C-04FB-4A23-9F1E-D7F6E5CB5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EF90C2-2FD5-4AD7-84A3-FA7943AEB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9B59B7-EA40-4477-B9DE-1EBB1CE8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D48267-D0FF-42F7-9E4E-191847148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9ECFE1-A1EA-42A2-994F-01FE75E16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C9E821-0220-4D10-997A-015A9F273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050C3B-DD10-438B-9064-DDE89899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81CC07-4DC3-4E50-A5EE-0602F1D9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6C9087-6C19-4E1D-8B47-5038A2CFC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0DC17B-E9B7-4F4D-88BC-4570A922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887-EF6E-4E3B-B779-5EB226B1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E88-6D6A-44A3-A853-B7FC844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077-0725-4D98-8B38-98594FD8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48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16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48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16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3E3-6470-4943-A693-6C4ED33F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2B0-4B66-4A60-A674-9149BA4E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240B-7ABD-46BD-8587-25FE2D5C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0CC6-E512-4225-85BA-14C3F0A9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D2C0-FCCF-4919-8F2A-72E8CAE5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145A-E77E-430A-BFB3-BB042A51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696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34C7-6512-4E25-AA0D-4036961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60E4-1E0C-4FFF-80C1-F674CE12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23C-BD97-4F13-8233-AEA6CD72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C583-5C6D-4023-B693-4B921BE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C429-6CCE-4665-8179-2DAFBBBC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13C-AF3B-4B89-BBCF-E8AD6073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6E7D-9D71-41E2-A010-CD509D05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248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416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1430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248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416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7320-59D1-4492-854B-E703D4A4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2B7-7243-4ED0-9746-52A3C578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D2C-178D-4066-A828-1E968F7C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139-30AB-4FAD-BE6C-E5BFC04D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696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FB1-D222-4BF6-A554-825C5689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4FF-3E51-480E-AED0-5914969F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832-EBE7-4074-8250-6916873C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A8C-E425-4210-A715-2895590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36"/>
              </a:spcBef>
              <a:buClr>
                <a:srgbClr val="669999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36"/>
              </a:spcBef>
              <a:buClr>
                <a:srgbClr val="cccc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36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36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AC57-0867-476D-ABAC-A331A079AA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6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49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36"/>
              </a:spcBef>
              <a:buClr>
                <a:srgbClr val="669999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36"/>
              </a:spcBef>
              <a:buClr>
                <a:srgbClr val="cccc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36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36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694C-3DFE-48C2-ABF6-62A7801351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.ebsco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4040" y="1258560"/>
            <a:ext cx="68486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Searching Interf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2" descr="slide2"/>
          <p:cNvPicPr/>
          <p:nvPr/>
        </p:nvPicPr>
        <p:blipFill>
          <a:blip r:embed="rId1"/>
          <a:stretch/>
        </p:blipFill>
        <p:spPr>
          <a:xfrm>
            <a:off x="176040" y="738360"/>
            <a:ext cx="8782200" cy="49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8" name="Picture 16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4"/>
          <p:cNvSpPr/>
          <p:nvPr/>
        </p:nvSpPr>
        <p:spPr>
          <a:xfrm>
            <a:off x="208080" y="5724360"/>
            <a:ext cx="851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EBSCO’s tutorial about basic searching and browsing 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cords o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earching Interface (BS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S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signed to help users research items such as economic or country analyses, investigate market trends or potential, and find current competitive information or landscape analysis inform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top"/>
          <p:cNvPicPr/>
          <p:nvPr/>
        </p:nvPicPr>
        <p:blipFill>
          <a:blip r:embed="rId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320760" y="5715000"/>
            <a:ext cx="849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earching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pport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our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tabase product line. The specific database presented via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S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represented by the logo shown at the top of the Basic and Advanced Search screens. Click on the database logo at any time to return to the Basic Search scre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2" descr="slide2"/>
          <p:cNvPicPr/>
          <p:nvPr/>
        </p:nvPicPr>
        <p:blipFill>
          <a:blip r:embed="rId2"/>
          <a:stretch/>
        </p:blipFill>
        <p:spPr>
          <a:xfrm>
            <a:off x="176040" y="738360"/>
            <a:ext cx="8782200" cy="49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3" name="Rectangle 33"/>
          <p:cNvSpPr/>
          <p:nvPr/>
        </p:nvSpPr>
        <p:spPr>
          <a:xfrm>
            <a:off x="209520" y="809640"/>
            <a:ext cx="3676680" cy="533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8" descr="slide4"/>
          <p:cNvPicPr/>
          <p:nvPr/>
        </p:nvPicPr>
        <p:blipFill>
          <a:blip r:embed="rId1"/>
          <a:stretch/>
        </p:blipFill>
        <p:spPr>
          <a:xfrm>
            <a:off x="142920" y="752400"/>
            <a:ext cx="8858160" cy="488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5" name="Text Box 14"/>
          <p:cNvSpPr/>
          <p:nvPr/>
        </p:nvSpPr>
        <p:spPr>
          <a:xfrm>
            <a:off x="411120" y="5715000"/>
            <a:ext cx="834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 LOOK-UP LIST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begin, note that the Basic Search screen provides easy access for browsing look-up lists of authors, companies, industries, keywords, publications and subjects. For example, enter a company name and then select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dio button before clicking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o view a list of company names, beginning with an exact match (when availab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2"/>
          <p:cNvSpPr/>
          <p:nvPr/>
        </p:nvSpPr>
        <p:spPr>
          <a:xfrm>
            <a:off x="666720" y="2622600"/>
            <a:ext cx="1128600" cy="3189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6"/>
          <p:cNvSpPr/>
          <p:nvPr/>
        </p:nvSpPr>
        <p:spPr>
          <a:xfrm>
            <a:off x="344520" y="1919160"/>
            <a:ext cx="1214280" cy="3891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7" descr="slide5"/>
          <p:cNvPicPr/>
          <p:nvPr/>
        </p:nvPicPr>
        <p:blipFill>
          <a:blip r:embed="rId1"/>
          <a:srcRect l="0" t="0" r="0" b="15322"/>
          <a:stretch/>
        </p:blipFill>
        <p:spPr>
          <a:xfrm>
            <a:off x="152280" y="743040"/>
            <a:ext cx="8828280" cy="499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9" name="Picture 7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55680" y="5932440"/>
            <a:ext cx="838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the box in front of the desired company name in the list, then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include it with other terms i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. Or, click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utton to find all articles indexed under the selected company na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3987720" y="3767040"/>
            <a:ext cx="728640" cy="3985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4"/>
          <p:cNvSpPr/>
          <p:nvPr/>
        </p:nvSpPr>
        <p:spPr>
          <a:xfrm>
            <a:off x="339840" y="1897200"/>
            <a:ext cx="1598400" cy="423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1" descr="slide6"/>
          <p:cNvPicPr/>
          <p:nvPr/>
        </p:nvPicPr>
        <p:blipFill>
          <a:blip r:embed="rId1"/>
          <a:srcRect l="0" t="0" r="0" b="16190"/>
          <a:stretch/>
        </p:blipFill>
        <p:spPr>
          <a:xfrm>
            <a:off x="181080" y="735120"/>
            <a:ext cx="8793000" cy="50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4" name="Picture 5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3"/>
          <p:cNvSpPr/>
          <p:nvPr/>
        </p:nvSpPr>
        <p:spPr>
          <a:xfrm>
            <a:off x="228600" y="5827680"/>
            <a:ext cx="8659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RESULT LI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ludes expanded source types, such as Academic Journals, Trade Publications, SWOT Analyses, and Country Reports. To save a Result List item, click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lder icon next to it. To create a personalized folder account, click o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, the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gn in to My BSP or (BS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Click 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ore information regarding the Personalized Fold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8280360" y="4208400"/>
            <a:ext cx="611280" cy="417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333360" y="2914560"/>
            <a:ext cx="8391600" cy="8575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6" descr="slide7"/>
          <p:cNvPicPr/>
          <p:nvPr/>
        </p:nvPicPr>
        <p:blipFill>
          <a:blip r:embed="rId1"/>
          <a:stretch/>
        </p:blipFill>
        <p:spPr>
          <a:xfrm>
            <a:off x="176040" y="1119240"/>
            <a:ext cx="8799840" cy="399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9" name="Picture 5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3"/>
          <p:cNvSpPr/>
          <p:nvPr/>
        </p:nvSpPr>
        <p:spPr>
          <a:xfrm>
            <a:off x="219240" y="5689440"/>
            <a:ext cx="8515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ING PROFILES AND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asic Search screen also featur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s for streamlined searching of alphabetical lists of Company or Industry Profiles, and Country or Market Research Reports, depending on availability. For example, click o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any Profi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647640" y="3848040"/>
            <a:ext cx="1878120" cy="5540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2" descr="slide8"/>
          <p:cNvPicPr/>
          <p:nvPr/>
        </p:nvPicPr>
        <p:blipFill>
          <a:blip r:embed="rId1"/>
          <a:srcRect l="0" t="0" r="0" b="16142"/>
          <a:stretch/>
        </p:blipFill>
        <p:spPr>
          <a:xfrm>
            <a:off x="138240" y="684360"/>
            <a:ext cx="8854920" cy="5101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5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228600" y="5848200"/>
            <a:ext cx="8736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lphabetized list of Datamonitor Reports available in PDF format will be displayed. Browse by selecting the letter “A,” or by enter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 f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, then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ose reports beginning wit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presented at the top of an alphabetized list. Click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monitor 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to view the full Company Report detail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2730600" y="2887560"/>
            <a:ext cx="1920600" cy="366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347760" y="1704960"/>
            <a:ext cx="6622920" cy="565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" descr="slide2"/>
          <p:cNvPicPr/>
          <p:nvPr/>
        </p:nvPicPr>
        <p:blipFill>
          <a:blip r:embed="rId1"/>
          <a:stretch/>
        </p:blipFill>
        <p:spPr>
          <a:xfrm>
            <a:off x="176040" y="738360"/>
            <a:ext cx="8782200" cy="490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8" name="Picture 5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9"/>
          <p:cNvSpPr/>
          <p:nvPr/>
        </p:nvSpPr>
        <p:spPr>
          <a:xfrm>
            <a:off x="258840" y="5770440"/>
            <a:ext cx="858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to view the complete online help manual, and visit the EBSCO Support Site a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support.ebsco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browse our Knowledge Base of FAQs, download Help Sheets and User Guides, view other tutorials, or see what’s new in Top Stories. This conclude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siness Searching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uto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3"/>
          <p:cNvSpPr/>
          <p:nvPr/>
        </p:nvSpPr>
        <p:spPr>
          <a:xfrm>
            <a:off x="7297560" y="927000"/>
            <a:ext cx="544680" cy="306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42:47Z</dcterms:created>
  <dc:creator>Dino Persakis</dc:creator>
  <dc:description/>
  <dc:language>en-US</dc:language>
  <cp:lastModifiedBy>Shannon2</cp:lastModifiedBy>
  <dcterms:modified xsi:type="dcterms:W3CDTF">2010-07-14T01:04:47Z</dcterms:modified>
  <cp:revision>153</cp:revision>
  <dc:subject/>
  <dc:title>CINAHL Basic Search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2137211033</vt:lpwstr>
  </property>
</Properties>
</file>